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1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86F-F692-4249-9A6E-7CB4E7AA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0D01-E274-40BA-B3BE-0D936A0A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F82-6DE5-4031-B9E5-2F61C829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FF2B-C41A-4749-97F6-308089B8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51BE-2DD9-4415-8C26-95C9A5F6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454A-9C9C-4CA7-B20F-553A670C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036A-EDB0-49D4-86D3-6866D46C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A846-5729-4284-87F4-E726509D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CF12-41C1-4326-9409-963ADD40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32AB-D3FA-42F8-99F5-5D6E45F4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0F13-37F0-4433-978C-0DA1134E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52E-BB21-44F2-A455-59013AE9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661D-BABB-48D0-AA73-1560F021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9C8B-5C8B-40C1-AF53-979BE923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37E2-B2D8-4281-A62D-6ACB8AA6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26FE-E7EE-492A-894F-065F07B7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F365-1735-4E2F-BBC0-B9017D21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7BA-65EA-462A-83F1-3D8B240E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849-1879-43AD-B81C-64465CD7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C0F-E71F-4403-9048-B21E0697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746-AB1B-459E-90EE-5D08A336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93F-8C8F-46FE-9721-80F778C8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EB7-3046-43A7-9184-0565F3B0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312-B503-4E4B-824F-2EA6FAFF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D3FE-A813-4E95-98C5-72DEC3AAD61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9A73-A0CA-4AC7-8C93-D08ACF0C09E6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8.jpeg"/><Relationship Id="rId18" Type="http://schemas.openxmlformats.org/officeDocument/2006/relationships/image" Target="../media/image9.jpeg"/><Relationship Id="rId19" Type="http://schemas.openxmlformats.org/officeDocument/2006/relationships/image" Target="../media/image10.jpeg"/><Relationship Id="rId20" Type="http://schemas.openxmlformats.org/officeDocument/2006/relationships/image" Target="../media/image11.jpeg"/><Relationship Id="rId21" Type="http://schemas.openxmlformats.org/officeDocument/2006/relationships/image" Target="../media/image8.jpeg"/><Relationship Id="rId22" Type="http://schemas.openxmlformats.org/officeDocument/2006/relationships/image" Target="../media/image9.jpeg"/><Relationship Id="rId23" Type="http://schemas.openxmlformats.org/officeDocument/2006/relationships/image" Target="../media/image10.jpeg"/><Relationship Id="rId24" Type="http://schemas.openxmlformats.org/officeDocument/2006/relationships/image" Target="../media/image11.jpeg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55640" y="2133720"/>
            <a:ext cx="7650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99ff"/>
                  </a:solidFill>
                  <a:miter/>
                </a:ln>
                <a:solidFill>
                  <a:srgbClr val="3333cc"/>
                </a:solidFill>
                <a:latin typeface="Garamond"/>
              </a:rPr>
              <a:t>ÖĞRENMENİN OLUŞUMU</a:t>
            </a:r>
            <a:endParaRPr b="1" lang="en-US" sz="4400" spc="1" strike="noStrike">
              <a:ln w="9360">
                <a:solidFill>
                  <a:srgbClr val="ff99ff"/>
                </a:solidFill>
                <a:miter/>
              </a:ln>
              <a:solidFill>
                <a:srgbClr val="3333cc"/>
              </a:solidFill>
              <a:latin typeface="Garamond"/>
              <a:ea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4076640"/>
            <a:ext cx="4321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Monotype Corsiva"/>
              </a:rPr>
              <a:t>Hazırlay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Monotype Corsiva"/>
              </a:rPr>
              <a:t>Biriz Kutoğ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Monotype Corsiva"/>
              </a:rPr>
              <a:t>Program Geliştirme Uzman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,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Öğrenmey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İçsel bir süreç olduğund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gözlemlenemeyecek bir olay olarak açıklamaktadır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u nedenle daha çok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Alg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ell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Yaratıcılı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Hatırlama ile ilgilenir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3000" y="7621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İLİŞSEL KURAM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00400" y="304920"/>
            <a:ext cx="5562720" cy="1676160"/>
          </a:xfrm>
          <a:prstGeom prst="wedgeEllipseCallout">
            <a:avLst>
              <a:gd name="adj1" fmla="val -60444"/>
              <a:gd name="adj2" fmla="val 59754"/>
            </a:avLst>
          </a:prstGeom>
          <a:solidFill>
            <a:srgbClr val="ff99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057040"/>
            <a:ext cx="779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99"/>
                </a:solidFill>
                <a:latin typeface="Garamond"/>
              </a:rPr>
              <a:t>Bu iki yaklaşım birbirine zıt gibi görünmekle birlikte, </a:t>
            </a:r>
            <a:br>
              <a:rPr sz="2400"/>
            </a:br>
            <a:br>
              <a:rPr sz="2400"/>
            </a:br>
            <a:r>
              <a:rPr b="1" lang="tr-TR" sz="2400" spc="-1" strike="noStrike">
                <a:solidFill>
                  <a:srgbClr val="333399"/>
                </a:solidFill>
                <a:latin typeface="Garamond"/>
              </a:rPr>
              <a:t>öğrenmenin farklı boyutlarını açıkladıkları için </a:t>
            </a:r>
            <a:br>
              <a:rPr sz="2400"/>
            </a:br>
            <a:br>
              <a:rPr sz="2400"/>
            </a:br>
            <a:r>
              <a:rPr b="1" lang="tr-TR" sz="2400" spc="-1" strike="noStrike">
                <a:solidFill>
                  <a:srgbClr val="333399"/>
                </a:solidFill>
                <a:latin typeface="Garamond"/>
              </a:rPr>
              <a:t>birbirlerini tamamlar niteliktedir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9144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Garamond"/>
              </a:rPr>
              <a:t>Davranışçı + Bilişsel = ÖĞREN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1543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5334120"/>
            <a:ext cx="121932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Pavl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984400" y="2057400"/>
            <a:ext cx="1828800" cy="99072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2057400"/>
            <a:ext cx="1828800" cy="91440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3124080"/>
            <a:ext cx="1981080" cy="1676520"/>
          </a:xfrm>
          <a:prstGeom prst="diamond">
            <a:avLst/>
          </a:prstGeom>
          <a:solidFill>
            <a:srgbClr val="00ccff"/>
          </a:solidFill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Garamond"/>
              </a:rPr>
              <a:t>DAVRANIŞÇ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3124080"/>
            <a:ext cx="1900080" cy="1600200"/>
          </a:xfrm>
          <a:prstGeom prst="diamond">
            <a:avLst/>
          </a:prstGeom>
          <a:solidFill>
            <a:srgbClr val="99cc00"/>
          </a:solidFill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Garamond"/>
              </a:rPr>
              <a:t>BİLİŞ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962520"/>
            <a:ext cx="0" cy="137160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800600"/>
            <a:ext cx="0" cy="91440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3962520"/>
            <a:ext cx="0" cy="137160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3962520"/>
            <a:ext cx="0" cy="137160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01080" y="4724280"/>
            <a:ext cx="37800" cy="106704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53280" y="3924360"/>
            <a:ext cx="0" cy="137160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5410080"/>
            <a:ext cx="1219320" cy="685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Ski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5867280"/>
            <a:ext cx="1218960" cy="6858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Thornd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5334120"/>
            <a:ext cx="1219320" cy="685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cc"/>
                </a:solidFill>
                <a:latin typeface="Tahoma"/>
              </a:rPr>
              <a:t>Bilgiy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cc"/>
                </a:solidFill>
                <a:latin typeface="Tahoma"/>
              </a:rPr>
              <a:t>işl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5791320"/>
            <a:ext cx="1219320" cy="6858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He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5410080"/>
            <a:ext cx="121896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Gest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52280"/>
            <a:ext cx="7619760" cy="1828800"/>
          </a:xfrm>
          <a:prstGeom prst="diamond">
            <a:avLst/>
          </a:prstGeom>
          <a:solidFill>
            <a:srgbClr val="ffff99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cc"/>
                </a:solidFill>
                <a:latin typeface="Tahoma"/>
              </a:rPr>
              <a:t>ÖĞRENME KURAML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2286000"/>
            <a:ext cx="1752480" cy="1600200"/>
          </a:xfrm>
          <a:prstGeom prst="diamond">
            <a:avLst/>
          </a:prstGeom>
          <a:solidFill>
            <a:srgbClr val="ffcf01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3333cc"/>
                </a:solidFill>
                <a:latin typeface="Garamond"/>
              </a:rPr>
              <a:t>Bilişs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3333cc"/>
                </a:solidFill>
                <a:latin typeface="Garamond"/>
              </a:rPr>
              <a:t>ağırlıkl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3333cc"/>
                </a:solidFill>
                <a:latin typeface="Garamond"/>
              </a:rPr>
              <a:t>Davranışç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1" lang="tr-TR" sz="1600" spc="-1" strike="noStrike">
                <a:solidFill>
                  <a:srgbClr val="3333cc"/>
                </a:solidFill>
                <a:latin typeface="Garamond"/>
              </a:rPr>
              <a:t>kuram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3276720"/>
            <a:ext cx="0" cy="83808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276720"/>
            <a:ext cx="0" cy="83808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4191120"/>
            <a:ext cx="914400" cy="609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Tol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191120"/>
            <a:ext cx="99036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Band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6019920"/>
            <a:ext cx="525240" cy="628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8320" y="4800600"/>
            <a:ext cx="914400" cy="690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048120" y="6172200"/>
            <a:ext cx="533160" cy="53352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1481040" y="3032280"/>
            <a:ext cx="6181560" cy="793440"/>
            <a:chOff x="1481040" y="3032280"/>
            <a:chExt cx="6181560" cy="793440"/>
          </a:xfrm>
        </p:grpSpPr>
        <p:sp>
          <p:nvSpPr>
            <p:cNvPr id="153" name=""/>
            <p:cNvSpPr/>
            <p:nvPr/>
          </p:nvSpPr>
          <p:spPr>
            <a:xfrm>
              <a:off x="1481040" y="3032280"/>
              <a:ext cx="4722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81040" y="3032280"/>
              <a:ext cx="618156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33"/>
                  </a:solidFill>
                  <a:latin typeface="Arial"/>
                </a:rPr>
                <a:t>  </a:t>
              </a:r>
              <a:r>
                <a:rPr b="0" lang="en-US" sz="4600" spc="-1" strike="noStrike">
                  <a:solidFill>
                    <a:srgbClr val="333333"/>
                  </a:solidFill>
                  <a:latin typeface="Arial"/>
                </a:rPr>
                <a:t> </a:t>
              </a:r>
              <a:r>
                <a:rPr b="0" lang="en-US" sz="900" spc="-1" strike="noStrike">
                  <a:solidFill>
                    <a:srgbClr val="333333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Öğrenme kuramlarından her biri farklı bir öğrenme türünü açıkladığından, hiçbir öğrenme kuramı bütün öğrenme türlerini ve öğrenmeye ilişkin tüm soruları açıklamaya ve çözmeye yeterli değild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u nedenle Program Geliştirme çalışmaları ve öğretim sürec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Öğrenme türün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Öğrencilerin özelliklerin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ilginin türüne göre her kuram grubundan ilkeleri kapsamak durumunda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vlov, Tolman, Thorndike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 İlke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Öğrenci yaparak öğren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Tekrarın önemi büyüktü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oğru davranış pekiştirilmel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Güdüleme öğrenmeyi büyük ölçüde etki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962520"/>
            <a:ext cx="1828800" cy="9144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ff"/>
              </a:gs>
            </a:gsLst>
            <a:lin ang="135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Hazırbulunuşl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5486400"/>
            <a:ext cx="1752840" cy="914400"/>
          </a:xfrm>
          <a:prstGeom prst="ellipse">
            <a:avLst/>
          </a:prstGeom>
          <a:gradFill rotWithShape="0">
            <a:gsLst>
              <a:gs pos="0">
                <a:srgbClr val="ffcf01"/>
              </a:gs>
              <a:gs pos="100000">
                <a:srgbClr val="ff0000"/>
              </a:gs>
            </a:gsLst>
            <a:lin ang="135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Pekişti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4648320"/>
            <a:ext cx="1752840" cy="91440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2feef3"/>
              </a:gs>
            </a:gsLst>
            <a:lin ang="135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Den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yanıl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4648320"/>
            <a:ext cx="1752480" cy="914400"/>
          </a:xfrm>
          <a:prstGeom prst="ellipse">
            <a:avLst/>
          </a:prstGeom>
          <a:gradFill rotWithShape="0">
            <a:gsLst>
              <a:gs pos="0">
                <a:srgbClr val="ffcf01"/>
              </a:gs>
              <a:gs pos="100000">
                <a:srgbClr val="6b92f3"/>
              </a:gs>
            </a:gsLst>
            <a:lin ang="135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Tek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4191120"/>
            <a:ext cx="76212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410080" y="5791320"/>
            <a:ext cx="60984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742840" y="5715000"/>
            <a:ext cx="60948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514600" y="4191120"/>
            <a:ext cx="68580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9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estalt,Ausubel,Köhler 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 İlke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İçeriğin düzenlenmesi, öğeler ve öğeler arası ilişkilerin açıklanması çok öneml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İçerik basitten karmaşığa doğru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Ezber yerine kavramlar ilişkilendirilmel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Kavramlar öğrenciye buldurulmalıd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önüt verilmel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Hazırbulunuşluk öneml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495680"/>
            <a:ext cx="1828800" cy="914400"/>
          </a:xfrm>
          <a:prstGeom prst="ellipse">
            <a:avLst/>
          </a:prstGeom>
          <a:gradFill rotWithShape="0">
            <a:gsLst>
              <a:gs pos="0">
                <a:srgbClr val="ffcf01"/>
              </a:gs>
              <a:gs pos="100000">
                <a:srgbClr val="00e4a8"/>
              </a:gs>
            </a:gsLst>
            <a:lin ang="135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Hazırbulunuşl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181480"/>
            <a:ext cx="1828800" cy="9144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ff"/>
              </a:gs>
            </a:gsLst>
            <a:lin ang="135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Dönü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5257800"/>
            <a:ext cx="1828800" cy="9144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0000"/>
              </a:gs>
            </a:gsLst>
            <a:lin ang="135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İçer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5791320"/>
            <a:ext cx="1828800" cy="91440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4724280"/>
            <a:ext cx="60948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486040" y="6172200"/>
            <a:ext cx="60948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6171840"/>
            <a:ext cx="60948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43200" y="4723920"/>
            <a:ext cx="60948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iaget, Dollard, Miller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 İlke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Hedef-davranışlar öğrencilerin yeteneğine göre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Öğrencinin doğumdan sonraki fiziksel ve kültürel gelişimi çok öneml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Öğrenme, öğrencinin içinde bulunduğu kültürel çevreden etkilen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Öğrencinin kaygı düzeyi, öğrenmeyi olumlu ya da olumsuz etkiler.Güdüleme bu boyutta etkin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Öğrenci, ilgi duyduğu alanda daha başarılı ol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Grupla çalışma, yarışma, işbirliği gibi öğrenme teknikleri, öğrenmeyi etkileyen değişkenlerden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agne, Nevell, Briggs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 İlke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Dikkati çek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Hedeften haberdar et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Ön öğrenmelerin hatırlatılm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Uyarıcı araç-gerecin sunulm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Rehberlik et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Davranışın gözlenm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Dönüt ver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Değerlendir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Kalıcığı sağlama ( Tekrar ve uygulama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onald Hebb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 İlke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Öğrenme, fiziksel uyarımlar sonucu beyinde oluşan, biyo-kimyasal bir değişme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Uyarılma ve dikkat etkin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Uyarıcı zenginliği ve çevre öneml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3962520"/>
            <a:ext cx="1905120" cy="9144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00e4a8"/>
              </a:gs>
            </a:gsLst>
            <a:lin ang="135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Çocuklukta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Öğrenme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4038480"/>
            <a:ext cx="1905120" cy="9144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Yetişkinlikt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Öğrenme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657240" y="3429000"/>
            <a:ext cx="68580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3429000"/>
            <a:ext cx="76176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4952880"/>
            <a:ext cx="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5638680"/>
            <a:ext cx="1676160" cy="91440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Tem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Öğrenme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5638680"/>
            <a:ext cx="1676160" cy="914400"/>
          </a:xfrm>
          <a:prstGeom prst="ellipse">
            <a:avLst/>
          </a:prstGeom>
          <a:gradFill rotWithShape="0">
            <a:gsLst>
              <a:gs pos="0">
                <a:srgbClr val="00e4a8"/>
              </a:gs>
              <a:gs pos="100000">
                <a:srgbClr val="6b92f3"/>
              </a:gs>
            </a:gsLst>
            <a:lin ang="135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ahoma"/>
              </a:rPr>
              <a:t>Yaratıcılı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5029200"/>
            <a:ext cx="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4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nin Kalıcılığı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ell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1905120"/>
            <a:ext cx="2667240" cy="1295280"/>
          </a:xfrm>
          <a:prstGeom prst="ellipse">
            <a:avLst/>
          </a:prstGeom>
          <a:gradFill rotWithShape="0">
            <a:gsLst>
              <a:gs pos="0">
                <a:srgbClr val="cc00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uyus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el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3352680"/>
            <a:ext cx="2666880" cy="1295640"/>
          </a:xfrm>
          <a:prstGeom prst="ellipse">
            <a:avLst/>
          </a:prstGeom>
          <a:gradFill rotWithShape="0">
            <a:gsLst>
              <a:gs pos="0">
                <a:srgbClr val="00e4a8"/>
              </a:gs>
              <a:gs pos="100000">
                <a:srgbClr val="6b92f3"/>
              </a:gs>
            </a:gsLst>
            <a:lin ang="5400000"/>
          </a:gra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ısa Süre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el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3276720"/>
            <a:ext cx="2666880" cy="129528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zun Süre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el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438280"/>
            <a:ext cx="838080" cy="68580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114800" y="3809880"/>
            <a:ext cx="13716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038480" y="4343400"/>
            <a:ext cx="157824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057400" y="837720"/>
            <a:ext cx="5827680" cy="52578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Öğrenme Nedi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Öğrenmenin Özellik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Öğrenmenin Oluşum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Kalıcı Öğren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Uzun Süreli Bell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Kısa Süreli Bell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Anısal Bell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Unut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ff"/>
                </a:solidFill>
                <a:latin typeface="Tahoma"/>
              </a:rPr>
              <a:t>Bilgiyi Geri Getirme Yollar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550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Bellek Tür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28600" y="685800"/>
          <a:ext cx="8686800" cy="601020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Özellik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uyusal Bell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ısa Sür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l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zun Sür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l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lgi giriş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Çevredeki tüm uyarıcı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kkat ve seçici algı süzgecinden geçen bil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ısa süreli bellekte tekrar edilen ve kodlanan bil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99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lginin kalış sü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arım sn.den 4 saniyeye kad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krar edilmediğinde 20 s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ürek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asit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ınırsı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Çok küçüktü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ınırsı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lginin biç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ınan uyarıcının kopyas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özel,görsel ve anlam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lamsal,görse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şema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riye geti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ümkün değ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krar etme ve otomatiklikle anında geriye geti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İpuçlarına,temsil etme ve örgütlemeye bağlıdı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Öğrenmenin Kalıcılığı </a:t>
            </a:r>
            <a:br>
              <a:rPr sz="3200"/>
            </a:b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ve</a:t>
            </a:r>
            <a:br>
              <a:rPr sz="3200"/>
            </a:b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Belleklerin işleyiş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Duyusal belleğe gelen duyusal sinyaller taranarak önemli olanlar kısa süreli belleğe aktarıl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Bu nedenle, öğrencilere kazandırılacak davranışlarla ilgili uyarıcılar,onların dikkatlerini çekecek biçimde hazırlanmalıd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nin Kalı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Kısa süreli bellekteki bilgiler, zihinsel tekrar sürdükçe kalab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Aksi takdirde 18.saniyeden sonra bilgiler büyük ölçüde kaybo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Bilgilerin daha uzun süreli hatırlanması için kısa süreli bellekten uzun süreli belleğe aktarılması gerekmekte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Bilgilerin kısa süreli bellekten uzun süreli belleğe aktarılması en az 5-10 dakika sürmekte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En iyi düzeyde kalıcılık ise 1 saat içinde meydana ge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nin kalıcılığı için alınacak önlem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692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Öğrenme sırasında, bir konudan diğer bir konuya geçerken öğrencilere tekrar için zaman verilmel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Çünkü beynin özellikle yeni kazanılan bilgilere tekrar eğilimi v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Bunun için sunulan uyarıcının dikkati çekmesi ve önemli olması gerekmekte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2480"/>
            <a:ext cx="3886200" cy="11430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99ff"/>
              </a:gs>
            </a:gsLst>
            <a:lin ang="5400000"/>
          </a:gra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ahoma"/>
              </a:rPr>
              <a:t>TEKR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nin kalıcılığı için alınacak önlem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Dinlenmiş zihin, yorgun bir zihne göre kalıcı öğrenmeyi daha çok sağl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Dersler, öğrenciye zihinsel dinlenmeyi sağlayacak etkinlikler planlanmalıd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819520" y="1752480"/>
            <a:ext cx="3886200" cy="11430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6b92f3"/>
              </a:gs>
            </a:gsLst>
            <a:lin ang="5400000"/>
          </a:gra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ahoma"/>
              </a:rPr>
              <a:t>DİNLEN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nin kalıcılığı için alınacak önlem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ilgileri kısa süreli bellekten uzun süreli belleğe geçirmede önemli olan noktalardan biri de bilginin kodlanarak uzun süreli belleğe gönderilmes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Kodlama ( anlamlandırma )işlemi sırasında, öğrenilen eski bilgilerin hatırlanması ve yeni bilgilerin eskilerle ilişkilendirilmesi, yeni bilgilerin işlenmesini ve hatırlanmasını kolaylaştırmakta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u nedenle yeni bilgilerle ilişkili olan öğrencinin eski bilgilerini hatırlaması sağlayıcı etkinlikler düzenlenmesi bilginin kalıcı olmasını sağlayacakt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1752480"/>
            <a:ext cx="3886200" cy="1143000"/>
          </a:xfrm>
          <a:prstGeom prst="ellipse">
            <a:avLst/>
          </a:prstGeom>
          <a:gradFill rotWithShape="0">
            <a:gsLst>
              <a:gs pos="0">
                <a:srgbClr val="00e4a8"/>
              </a:gs>
              <a:gs pos="100000">
                <a:srgbClr val="ffcf01"/>
              </a:gs>
            </a:gsLst>
            <a:lin ang="5400000"/>
          </a:gra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ahoma"/>
              </a:rPr>
              <a:t>HATIRLAT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42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47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2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UNUT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1826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Gereksiz bilginin uzun süreli belleğe gönderilmesi; uzun süreli belleğin bilgi çöplüğü haline dönüşmemesi için gereklid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Ancak okul hayatında gerekli olan bilgilerin unutulma olasılığının bulunması, unutmaya karşı bazı önlemlerin alınmasını gerekti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Unutma, duyusal kayıt ve kısa süreli bellekte meydana gelmekted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Kısa süreli belleğe algılanarak gelen bilgi tekrar edilmediği ya da anlamlandırılmadığı zaman unutulmaktadı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BİLGİYİ GERİ GETİRME YOLLAR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Bilginin öğrenildiği durumun, yani bilgiyi kodlayıp uzun süreli belleğe göndermede kullandığımız ipuçlarının , bilgiyi geri getirmede can alıcı bir yere sahip olması eğitim açısından önemli doğurgulara sahip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Eğer, öğrenme sırasında öğrencilerin bilgiyi zengin, geniş kapsamlı, çok yönlü ipuçlarıyla kodlaması sağlanırsa, gerektiğinde bilgiye ulaşmaları ve geri getirmeleri de o kadar kolay olacakt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Öğrenme ürünlerinin tipi de bilgiyi geri getirmede öneml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440" y="15228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Örneğin, psikomotor beceriler bilişsel öğrenmelere göre daha kolay hatırlan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Kavramlar ve ilkeler de daha kolay hatırlanmaktadır.Çocuklukta öğrenilen kavramlar hayat boyu kullanıldığı için kalıcılığı güçlen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Oysa ülkelerin başkentleri, tarihi olayların günleri sürekli kullanılmadığı için kolay unutu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Öğrenme sırasında, öğrenci ne kadar çok duyu organını kullanırsa bilgiyi çok yönlü olarak kodlayabilir ve geri getirme düzeyi o denli yükse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172200" y="5029200"/>
            <a:ext cx="26668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 NEDİ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Büyüme ve vücutta değişik etkilerle oluşan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Geçici değişmelere atfedilmeyecek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Yaşantı ürünü olarak meydana gelen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Davranışlardaki nispeten, kalıcı iz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Değişmed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29400" y="120600"/>
            <a:ext cx="175248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nin Özellik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avranışta gözlenebilir bir değişme ol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avranıştaki değişmenin nispeten sürekli ol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avranıştaki değişmenin yaşantı sonucunda ol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avranıştaki değişmenin yorgunluk, hastalık, ilaç alma vb.etkenlerle geçici bir biçimde meydana gelmem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avranıştaki değişmenin sadece büyüme sonucunda oluşma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Davranıştaki değişmenin nispeten sürekli olması ne demektir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Yapılan araştırmalard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ireylere anlamsız heceler gibi alışılmadık bilgiler sunulduğunda ve zihinsel tekrar imkanı verilmediğinde, deneklerin bu bilgiyi aşağı yukarı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3 saniyede hatırlayabildik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unu izleyen 15 saniyede ise bilginin hatırlanamaz hale geldiği gözlemlenmiş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u kadar kısa sürede bilgi yok olmakla birlikte öğrenmenin hiç oluşmadığını söylemek mümkün değildir.Bu nedenle öğrenmenin tanımında davranıştaki değişmenin nispeten sürekli olması ifadesi kullanılmaktadır</a:t>
            </a: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Bu değişmenin içgüdüsel ya da refleksif olmaması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Yaşantı sonucu kazanılmış olması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Nispeten kalıcı izli olması gerekmekted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30492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cc"/>
                </a:solidFill>
                <a:latin typeface="Tahoma"/>
              </a:rPr>
              <a:t>Davranıştaki değişikliğ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cc"/>
                </a:solidFill>
                <a:latin typeface="Tahoma"/>
              </a:rPr>
              <a:t>öğrenme diyebilmek için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ğrenmenin Oluşu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Öğrenmenin hangi koşullar altında oluşacağını ya da oluşmayacağını, öğrenme kuramları açıkla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Bir öğrenme kuramının, genelde tüm organizmalarda, tüm öğrenme birimlerinde, okul içinde ve dışındaki tüm durumlarda nasıl oluştuğunu açıklaması beklenir.Ancak tüm öğrenme durumlarını açıklayabilen tek bir öğrenme kuramı henüz yokt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4972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28800" y="304920"/>
            <a:ext cx="5791320" cy="205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cc"/>
                </a:solidFill>
                <a:latin typeface="Tahoma"/>
              </a:rPr>
              <a:t>ÖĞRENME KURAML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590560" y="2438280"/>
            <a:ext cx="106668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2514600"/>
            <a:ext cx="1066680" cy="838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581280"/>
            <a:ext cx="3200400" cy="16002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ahoma"/>
              </a:rPr>
              <a:t>DAVRANIŞÇ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3581280"/>
            <a:ext cx="3200400" cy="16002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ahoma"/>
              </a:rPr>
              <a:t>BİLİŞ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f0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88640" y="1523880"/>
            <a:ext cx="8955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Öğrenmey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oğrudan gözlenebilen uyarıcı ile davranışlar arasındaki</a:t>
            </a: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ilişki kurma işi olarak açıklamaktadır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u nedenle daha ç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avranışla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Davranışlarda meydana gelen değişmel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Tahoma"/>
              </a:rPr>
              <a:t>Bu değişikliklere neden olan uyarıcılarla ilgilenirler</a:t>
            </a:r>
            <a:r>
              <a:rPr b="1" lang="tr-TR" sz="24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43000" y="304920"/>
            <a:ext cx="73915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Times New Roman"/>
              </a:rPr>
              <a:t>DAVRANIŞÇI KURAM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7:12:28Z</dcterms:created>
  <dc:creator>KÖKSAL TOPTAN LİSESİ</dc:creator>
  <dc:description/>
  <dc:language>en-US</dc:language>
  <cp:lastModifiedBy>bkutoglu</cp:lastModifiedBy>
  <dcterms:modified xsi:type="dcterms:W3CDTF">2003-08-15T07:25:42Z</dcterms:modified>
  <cp:revision>59</cp:revision>
  <dc:subject/>
  <dc:title>MEV ANKARA ÖZEL OKULLARI</dc:title>
</cp:coreProperties>
</file>